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D822-A593-432C-A3DE-CD91A9069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F454-3561-4F09-B31B-188FF72BF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B345-3E63-4836-9F0C-49A45ECC2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7EB6-C6A2-45CC-AD2B-CE4083664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105D-17A1-4E96-A1AF-297D939E2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EA6D-ABBE-4750-8EEA-699F51F88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59D5-D4FF-44CE-A98A-F810132D7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3FD9-0992-461D-9640-8902DB9C9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B3B9-B03E-4869-BA90-B943702AB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2F85-30BD-44F2-8C40-C8A3E6D2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11DC-20A8-4D96-8F6E-2EE6EED4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36E4-9A2F-4F75-83A4-F57424E8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0C9AD-14BC-45CC-A191-E40120A555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601200" cy="689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601200" cy="689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5562720" y="5267160"/>
          <a:ext cx="3335040" cy="159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5267160"/>
                    <a:ext cx="3335040" cy="15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685800" y="228600"/>
            <a:ext cx="868680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Verdana"/>
              </a:rPr>
              <a:t>Dabas liegums “Gudenieki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</a:rPr>
              <a:t>Zemes vienības un to kadastra numu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8534160" y="4191120"/>
            <a:ext cx="152280" cy="457200"/>
          </a:xfrm>
          <a:prstGeom prst="line">
            <a:avLst/>
          </a:prstGeom>
          <a:ln w="2844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5943600"/>
            <a:ext cx="312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MK Noteikumos Nr212 (1999) noteiktā dabas lieguma “Gudenieki”robež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095880"/>
            <a:ext cx="152640" cy="0"/>
          </a:xfrm>
          <a:prstGeom prst="line">
            <a:avLst/>
          </a:prstGeom>
          <a:ln w="1908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30T15:51:24Z</dcterms:created>
  <dc:creator>Loreta Urtane</dc:creator>
  <dc:description/>
  <dc:language>en-US</dc:language>
  <cp:lastModifiedBy>astrida</cp:lastModifiedBy>
  <cp:lastPrinted>2001-08-15T07:37:06Z</cp:lastPrinted>
  <dcterms:modified xsi:type="dcterms:W3CDTF">2001-08-15T07:39:56Z</dcterms:modified>
  <cp:revision>7</cp:revision>
  <dc:subject/>
  <dc:title>No Slide Title</dc:title>
</cp:coreProperties>
</file>